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C40-C1E0-4EC8-8A7F-A7546145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0DC-E293-4FFB-B3EA-FC785AB8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1B1-6576-429E-B140-7037A7B4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F8D-BB4F-433F-A8FE-012B9D06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E4A-B446-4985-B245-7026CA9E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737-C29F-4256-BD3A-AFB49590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AC4-0D9A-4D6B-BB7E-03D79491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D3E-A315-441B-A917-ADDD42E0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794-A1E3-4478-9C0B-3A42979A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0CB-9DBE-44A3-A5FB-40A11254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FA6-C7F9-4A73-99E1-D3D4310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8E2-7B8C-46F7-B019-2F23DBB9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104B-B150-4776-BD68-BB4967B6CD3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6 Ó, poďte všetci ku m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Ó, poďte všetci ku m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preťažení s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 všetkých končín z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spásu nájde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lahodne znie uchu zv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ľkej ochot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odpustenie hriech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z Božej dobr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poďte, všetci hrieš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dosiaľ blúdi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 Pána v každej ties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jsť pokoj môže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Prostredníka – Kris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et v svete nád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k Bohu žiadna ces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neho neve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poďte, skleslí v boj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moc prijmi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lovom Pán si stoj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cieľa dôjde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mocou smrti Kristus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kríži zvíťazi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 životu nám prístup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z hrob svoj pripravi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9:10:49Z</dcterms:modified>
  <cp:revision>21</cp:revision>
  <dc:subject/>
  <dc:title>Je veľký náš Pán, on slávy je Kráľ Nech do všetkých strán  spev vrúcnych znie chvál.</dc:title>
</cp:coreProperties>
</file>